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3FF-0184-4DD2-BDB8-D826F35D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134-4F17-417A-8F51-1B631CD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DA1-20CA-4884-A67C-316190E0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5F8-0B4D-43DA-91BD-E451C344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D02-3304-4629-B7BC-138ACFE7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C44-7CC6-44EB-B208-2879211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66F-4F35-4D80-AE1F-7F3C8DEE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845-B0E4-4F08-A4A3-4EE7F8C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392-22B3-4D27-B8AB-F91F3011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6B7-505A-4975-B48F-C12893A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0A7-F487-4AC8-8F62-FAF6A4A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64C-9B98-40EB-823C-94DA47E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F63-DD79-466B-A6B3-F1D31D2A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            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1 de abril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68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viste en la tele 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.o: to review the preterite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 en el Preteri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Copia y responde, usa P.O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Miraste la tele ano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Tocaste el pi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scuchaste mus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studiaste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Usaste tu computad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nviaste e-ma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i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Answer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graph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dditional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mma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terito de los verbos –er, –ir e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9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20:11:34Z</dcterms:created>
  <dc:creator>Helen Zumaeta</dc:creator>
  <dc:description/>
  <dc:language>en-US</dc:language>
  <cp:lastModifiedBy>Helen Zumaeta</cp:lastModifiedBy>
  <dcterms:modified xsi:type="dcterms:W3CDTF">2016-04-11T14:22:16Z</dcterms:modified>
  <cp:revision>10</cp:revision>
  <dc:subject/>
  <dc:title>Me llamo _________              Clase 8im La fecha es el 13 de diciembre del 2012</dc:title>
</cp:coreProperties>
</file>